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3.jpeg" ContentType="image/jpeg"/>
  <Override PartName="/ppt/media/image40.jpeg" ContentType="image/jpeg"/>
  <Override PartName="/ppt/media/whoosh.wav" ContentType="audio/x-wav"/>
  <Override PartName="/ppt/media/image28.jpeg" ContentType="image/jpeg"/>
  <Override PartName="/ppt/media/image5.png" ContentType="image/png"/>
  <Override PartName="/ppt/media/applause.wav" ContentType="audio/x-wav"/>
  <Override PartName="/ppt/media/image43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9.jpeg" ContentType="image/jpeg"/>
  <Override PartName="/ppt/media/image42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.jpeg" ContentType="image/jpeg"/>
  <Override PartName="/ppt/media/push.wav" ContentType="audio/x-wav"/>
  <Override PartName="/ppt/media/image32.jpeg" ContentType="image/jpeg"/>
  <Override PartName="/ppt/media/image38.jpeg" ContentType="image/jpeg"/>
  <Override PartName="/ppt/media/image44.jpeg" ContentType="image/jpeg"/>
  <Override PartName="/ppt/media/image12.jpeg" ContentType="image/jpeg"/>
  <Override PartName="/ppt/media/camera.wav" ContentType="audio/x-wav"/>
  <Override PartName="/ppt/media/image29.jpeg" ContentType="image/jpeg"/>
  <Override PartName="/ppt/media/coin.wav" ContentType="audio/x-wav"/>
  <Override PartName="/ppt/media/image11.png" ContentType="image/png"/>
  <Override PartName="/ppt/media/image9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DD3-48BC-46A9-8771-5F4BFBEC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551-2945-424F-BC32-D962D809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205-9268-4E22-B607-99E19538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86B-9989-4C23-AFBA-0FDC4169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7AFD-431F-4076-8B14-7F77606D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38B1-189E-442D-8A69-C7A7A046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434D-C6B7-4C7C-94A5-0EEACAB0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9610-5CA6-4D69-B429-68C239B3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9797-FA6D-4032-87BA-B95BD248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E197-BC8B-410E-A3E3-A57A8A89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B95E-D35A-4631-A8C2-2D41DECA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5B0-4354-4CC7-BEC1-B25E457A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C4B4-2B2F-4B80-B5F9-6B6D9F6B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7175-86DF-41F6-B8F8-555F349A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2146-2EB6-48F6-BEE8-64717A7B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431A-B184-4B51-A747-9C70675C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880D-8D98-41F0-A864-C01C0681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27E0-4467-4421-A160-5B539A2C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3C63-3AAC-41F6-A41A-0D4EF072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401EC-0AE9-4087-A824-1C290D40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D8B5A-5773-4F3A-90F0-92D973D4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E8D2-71FE-4A97-91D8-E21A1144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FA0-7D4D-45E3-AEBF-1EFC912F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B53B-5B88-4C8F-A3E4-0490D25B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4396-2513-4643-AB8F-1557A58D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DDAB-6489-45C0-B9C4-C20AED32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66671-95BB-4558-B61C-2C7F1FA3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42AD9-E9A1-4483-82A1-7B268E07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C329E-0B7D-4F1E-A56F-3642E992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2DDD9-BFEC-488C-BBB5-9B08F6B4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8280-1D53-4E73-A73C-43E581E0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E4A03-C842-4E34-8C45-BA048E87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4D62C-FB2C-4D31-97C7-4960F8B9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354-8531-4F0D-8DF3-32657C33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2E864-87F3-48AD-BDAE-0CC5F3E1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0644B-E7C0-4D14-8703-7AC626CB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D8739-09FA-44B0-B08A-02BB7CF9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22EDC-EED9-4E1C-B451-83BA4FE0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51D1A-EF01-4253-9106-9F1CD629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C57DF-663B-4782-84C1-260C30B6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BB2C1-D5C8-4512-BABD-FA38EE91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C8143-4BE6-4A5F-836E-F0A48AD7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0A4C7-4FC4-40EF-9676-ED39BB1C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1645C-D93A-41B9-9A84-176438CA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474-DF83-4B2A-AF8B-E5ABE4C5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9495-EE59-4270-9611-D151906B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2DF62-035E-4C23-AF0A-E4975C51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57A5D-ED4F-4370-80A9-5EC87402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DE8F7-A655-4344-8D0D-3FDCE85D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CBB04-F97D-4915-940E-4DFC9F20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EC3C3-9E02-474B-A857-5A733F63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5BD5B-27B3-4C61-A316-E993DAD3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F8CC5-1588-4208-99D3-BC02A661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0C318-C4F3-48BD-A255-4F89B844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2B43C-0C79-47B3-B807-1F761DFC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9E0-8682-4FA6-B56C-E4BC5DE4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10AF0-4139-4686-B8FB-312DEAA6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6C05E-F4B8-4070-AE49-4BA84F21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DF7CE-6586-4A0B-AEB5-A320ABC5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98009-8825-4159-9F0B-0CEA8F1A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420A3-7872-4DAA-B176-79DFC27D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DB80A-008D-47E1-AFF6-3B116900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F9315-4EA3-419F-B2EA-A4F009F8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85C89-C249-4A76-95A2-A5F23E3D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F5803-BDFA-4885-8F36-A1417677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100EA-4F37-4EA3-8DE3-7B7723B6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E27-AED6-4E82-8209-2D99C37B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FB57D-AD7E-4F73-9D99-86643171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B5D97-02B4-4280-8828-8E677A74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C99EE-E89D-45F6-A6F9-A8643B43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62B93-5F8C-4681-BE5C-50228818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FBBD-BD07-4F7A-AE9D-5D623ECD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26B25-AE73-48D9-B473-23CCD6EB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49521-0252-4117-96D6-64C09890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0555A-F607-425A-9D68-55781D80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C37C0-0721-4003-973F-5AD6A578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68EE6-0771-436C-B9DA-69A4F0BA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E49-D720-4644-930F-38E507E4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D8D5F-083F-43AE-89D7-C9902CD8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1F703-4083-470E-B14C-ACD3743F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67BB4-53EB-40DB-8EEC-DA4A995B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6A975-B0F1-4E93-A354-87C413FF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C9BEF-A83C-4893-ABFE-64140BA3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88001-E87F-4409-B390-FFC22ECB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9F27B-E47B-48D8-A050-83DB0944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740B0-B3E4-4AA9-A67B-23D7B7A1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07C0C-FF4E-4BD9-927A-4EF2EDF3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58AB1-8345-46CD-BD1E-9A553C0E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0D4-1AD8-4FA1-A7CA-FBD57153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D2C60-61DD-43E9-B4BC-7381B754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0FD57-3BBA-4E9E-B176-59E5F2EB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13929-54BA-4289-8789-FCE316DF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D8641-55CE-4AAD-8246-ECAAD191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3BA5E-F064-4AA0-9427-8B8F39D1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D8F82-755A-4AEB-B6F6-A78CC7D5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01BDF-0764-4EEA-B973-9AEDB6FA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6224-8DA5-4453-885D-8C1893145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86C2-CCE1-430D-B480-CB4F2193A8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361F-4903-49F2-BDEF-123081F8AD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98C2-F49D-482D-97BB-136EADBE97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382C-FFAB-4015-BDC7-82DE51BC1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CFBD-CEFD-4F4D-AED9-D95BA88BB9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417F-0BE7-4027-B00B-0975DF724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4DB4-3478-482B-AC5E-5B5D4885F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" Target="slide1.xml"/><Relationship Id="rId5" Type="http://schemas.openxmlformats.org/officeDocument/2006/relationships/image" Target="../media/image11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slide1.xml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" Target="slide1.xml"/><Relationship Id="rId4" Type="http://schemas.openxmlformats.org/officeDocument/2006/relationships/image" Target="../media/image1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.xml"/><Relationship Id="rId3" Type="http://schemas.openxmlformats.org/officeDocument/2006/relationships/image" Target="../media/image11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中国地图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22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331" name="AutoShape 6"/>
          <p:cNvSpPr/>
          <p:nvPr/>
        </p:nvSpPr>
        <p:spPr>
          <a:xfrm>
            <a:off x="6227640" y="5084640"/>
            <a:ext cx="1079640" cy="503280"/>
          </a:xfrm>
          <a:prstGeom prst="wedgeEllipseCallout">
            <a:avLst>
              <a:gd name="adj1" fmla="val -97060"/>
              <a:gd name="adj2" fmla="val 9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6227640" y="5013360"/>
            <a:ext cx="194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香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5580000" y="5805360"/>
            <a:ext cx="144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026" descr="001013005_428739_3"/>
          <p:cNvPicPr/>
          <p:nvPr/>
        </p:nvPicPr>
        <p:blipFill>
          <a:blip r:embed="rId2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27" descr="4126801"/>
          <p:cNvPicPr/>
          <p:nvPr/>
        </p:nvPicPr>
        <p:blipFill>
          <a:blip r:embed="rId3"/>
          <a:stretch/>
        </p:blipFill>
        <p:spPr>
          <a:xfrm>
            <a:off x="0" y="3454560"/>
            <a:ext cx="4419720" cy="34034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28"/>
          <p:cNvSpPr/>
          <p:nvPr/>
        </p:nvSpPr>
        <p:spPr>
          <a:xfrm>
            <a:off x="0" y="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在香港，人们能够品尝到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世界各地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的美食。内地的粤（</a:t>
            </a: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yu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è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）菜、川菜，德国、法国、意大利等国的佳肴（</a:t>
            </a: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y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o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），东南亚各地的饮食，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一应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[y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ì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ng]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俱（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j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ù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）全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，游客们可以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大饱口福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。所以，人们又把香港称作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美食天堂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。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26" descr="4233798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27" descr="4233799"/>
          <p:cNvPicPr/>
          <p:nvPr/>
        </p:nvPicPr>
        <p:blipFill>
          <a:blip r:embed="rId3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28" descr="4126802"/>
          <p:cNvPicPr/>
          <p:nvPr/>
        </p:nvPicPr>
        <p:blipFill>
          <a:blip r:embed="rId4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1"/>
          <p:cNvPicPr/>
          <p:nvPr/>
        </p:nvPicPr>
        <p:blipFill>
          <a:blip r:embed="rId2"/>
          <a:stretch/>
        </p:blipFill>
        <p:spPr>
          <a:xfrm>
            <a:off x="36360" y="-20520"/>
            <a:ext cx="9072720" cy="6834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2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5"/>
          <p:cNvSpPr/>
          <p:nvPr/>
        </p:nvSpPr>
        <p:spPr>
          <a:xfrm>
            <a:off x="8174880" y="692280"/>
            <a:ext cx="7898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奇脆明珠伴金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3"/>
          <p:cNvPicPr/>
          <p:nvPr/>
        </p:nvPicPr>
        <p:blipFill>
          <a:blip r:embed="rId1"/>
          <a:stretch/>
        </p:blipFill>
        <p:spPr>
          <a:xfrm>
            <a:off x="0" y="-536400"/>
            <a:ext cx="9866160" cy="73944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755640" y="3068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三弄回味牛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6335640" y="-3445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西施伴霸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2484360" y="407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金映白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971640" y="836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香港海洋公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027" descr="haitun2"/>
          <p:cNvPicPr/>
          <p:nvPr/>
        </p:nvPicPr>
        <p:blipFill>
          <a:blip r:embed="rId2"/>
          <a:stretch/>
        </p:blipFill>
        <p:spPr>
          <a:xfrm>
            <a:off x="0" y="0"/>
            <a:ext cx="3095640" cy="3276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28" descr="haitun"/>
          <p:cNvPicPr/>
          <p:nvPr/>
        </p:nvPicPr>
        <p:blipFill>
          <a:blip r:embed="rId3"/>
          <a:stretch/>
        </p:blipFill>
        <p:spPr>
          <a:xfrm>
            <a:off x="6019920" y="3638520"/>
            <a:ext cx="3124080" cy="3219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29" descr="sandiago1"/>
          <p:cNvPicPr/>
          <p:nvPr/>
        </p:nvPicPr>
        <p:blipFill>
          <a:blip r:embed="rId4"/>
          <a:stretch/>
        </p:blipFill>
        <p:spPr>
          <a:xfrm>
            <a:off x="0" y="3733920"/>
            <a:ext cx="3048120" cy="3124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30" descr="haitun3"/>
          <p:cNvPicPr/>
          <p:nvPr/>
        </p:nvPicPr>
        <p:blipFill>
          <a:blip r:embed="rId5"/>
          <a:stretch/>
        </p:blipFill>
        <p:spPr>
          <a:xfrm>
            <a:off x="6019920" y="0"/>
            <a:ext cx="3124080" cy="32004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1031"/>
          <p:cNvSpPr/>
          <p:nvPr/>
        </p:nvSpPr>
        <p:spPr>
          <a:xfrm>
            <a:off x="3048120" y="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公园里的海豚和海狮表演最为出色。在清澈的池水里，它们一会儿钻圈，一会儿顶球。有时趁你不注意，会突然跃出水面，向你点头，有时还会喷你一身水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6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  <p:sndAc>
      <p:stSnd>
        <p:snd r:embed="rId2" name="coin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  <p:sndAc>
      <p:stSnd>
        <p:snd r:embed="rId2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2"/>
          <p:cNvSpPr txBox="1"/>
          <p:nvPr/>
        </p:nvSpPr>
        <p:spPr>
          <a:xfrm>
            <a:off x="468360" y="404640"/>
            <a:ext cx="7391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香港，璀璨的明珠</a:t>
            </a:r>
            <a:endParaRPr b="1" lang="en-US" sz="72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3643200" y="571500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市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01040" y="357120"/>
            <a:ext cx="463680" cy="463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9572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3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  <p:sndAc>
      <p:stSnd>
        <p:snd r:embed="rId2" name="applaus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20055910813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pic_119618"/>
          <p:cNvPicPr/>
          <p:nvPr/>
        </p:nvPicPr>
        <p:blipFill>
          <a:blip r:embed="rId3"/>
          <a:stretch/>
        </p:blipFill>
        <p:spPr>
          <a:xfrm>
            <a:off x="-233280" y="0"/>
            <a:ext cx="4794120" cy="6858000"/>
          </a:xfrm>
          <a:prstGeom prst="rect">
            <a:avLst/>
          </a:prstGeom>
          <a:ln w="0">
            <a:noFill/>
          </a:ln>
        </p:spPr>
      </p:pic>
      <p:pic>
        <p:nvPicPr>
          <p:cNvPr id="393" name="图片 4" descr="图片1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14840" y="564372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6" name="applaus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567600" y="5335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灯的海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252360" y="549360"/>
            <a:ext cx="889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隶书"/>
              </a:rPr>
              <a:t>       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港湾里闪耀的灯光像五颜六色的焰火洒落人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ush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611280" y="260280"/>
            <a:ext cx="71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Arial"/>
                <a:ea typeface="隶书"/>
              </a:rPr>
              <a:t>马路上一串串明亮的车灯，如同闪光的长河奔流不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5148360" y="692280"/>
            <a:ext cx="359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东方之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-101520" y="260280"/>
            <a:ext cx="710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1268280"/>
            <a:ext cx="1125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感情地朗读课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了解课文内容，知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课文是从哪几个方面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绍香港的，激发学生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爱香港，热爱祖国的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想感情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  <p:sndAc>
      <p:stSnd>
        <p:snd r:embed="rId2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图片 2" descr="图片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71960" y="557208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hk_l_1_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        </a:t>
            </a:r>
            <a:r>
              <a:rPr b="1" lang="zh-CN" sz="8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香港，真是我国南海之滨一颗璀璨无比的明珠。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图片 4" descr="图片1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71960" y="557208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440000" y="914400"/>
            <a:ext cx="7453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学指导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请同学们认真朗读课文，遇到不认识的字利用工具书或同桌解决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钟后比赛朗读，比谁课文读得正确、流利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79280" y="620640"/>
            <a:ext cx="882036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琳琅满目  应有尽有  物美价廉  佳肴  一应俱全  大饱口福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旅游胜地  举世闻名  夜幕降临  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五颜六色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奔流不息  光彩夺目  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五洲四海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璀璨无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50120" y="922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应有尽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44800" y="20318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应俱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89000" y="1270080"/>
            <a:ext cx="88488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自学指导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同学们自由地朗读课文，思考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课文是从哪几个方面介绍香港的？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分钟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谁回答得正确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028"/>
          <p:cNvSpPr/>
          <p:nvPr/>
        </p:nvSpPr>
        <p:spPr>
          <a:xfrm>
            <a:off x="4574880" y="1484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隶书"/>
              </a:rPr>
              <a:t>万国市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29"/>
          <p:cNvSpPr/>
          <p:nvPr/>
        </p:nvSpPr>
        <p:spPr>
          <a:xfrm>
            <a:off x="4574880" y="263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隶书"/>
              </a:rPr>
              <a:t>美食天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30"/>
          <p:cNvSpPr/>
          <p:nvPr/>
        </p:nvSpPr>
        <p:spPr>
          <a:xfrm>
            <a:off x="4647960" y="4005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隶书"/>
              </a:rPr>
              <a:t>旅游胜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31"/>
          <p:cNvSpPr/>
          <p:nvPr/>
        </p:nvSpPr>
        <p:spPr>
          <a:xfrm>
            <a:off x="1063080" y="32148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香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32"/>
          <p:cNvSpPr/>
          <p:nvPr/>
        </p:nvSpPr>
        <p:spPr>
          <a:xfrm>
            <a:off x="4574880" y="522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隶书"/>
              </a:rPr>
              <a:t>灯的海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036"/>
          <p:cNvSpPr/>
          <p:nvPr/>
        </p:nvSpPr>
        <p:spPr>
          <a:xfrm flipV="1">
            <a:off x="2627280" y="1989000"/>
            <a:ext cx="151308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37"/>
          <p:cNvSpPr/>
          <p:nvPr/>
        </p:nvSpPr>
        <p:spPr>
          <a:xfrm flipV="1">
            <a:off x="2643120" y="3143160"/>
            <a:ext cx="1440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038"/>
          <p:cNvSpPr/>
          <p:nvPr/>
        </p:nvSpPr>
        <p:spPr>
          <a:xfrm>
            <a:off x="2571840" y="3857760"/>
            <a:ext cx="1584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039"/>
          <p:cNvSpPr/>
          <p:nvPr/>
        </p:nvSpPr>
        <p:spPr>
          <a:xfrm>
            <a:off x="2571840" y="4000680"/>
            <a:ext cx="1584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图片 11" descr="图片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6800" y="5786280"/>
            <a:ext cx="895320" cy="8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Img226984150"/>
          <p:cNvPicPr/>
          <p:nvPr/>
        </p:nvPicPr>
        <p:blipFill>
          <a:blip r:embed="rId2"/>
          <a:stretch/>
        </p:blipFill>
        <p:spPr>
          <a:xfrm>
            <a:off x="2590920" y="3200400"/>
            <a:ext cx="2590560" cy="36576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U867P1T1D7725931F23DT20050909183658"/>
          <p:cNvPicPr/>
          <p:nvPr/>
        </p:nvPicPr>
        <p:blipFill>
          <a:blip r:embed="rId3"/>
          <a:stretch/>
        </p:blipFill>
        <p:spPr>
          <a:xfrm>
            <a:off x="0" y="3200400"/>
            <a:ext cx="2590920" cy="3657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no18"/>
          <p:cNvPicPr/>
          <p:nvPr/>
        </p:nvPicPr>
        <p:blipFill>
          <a:blip r:embed="rId4"/>
          <a:stretch/>
        </p:blipFill>
        <p:spPr>
          <a:xfrm>
            <a:off x="0" y="0"/>
            <a:ext cx="5181480" cy="32004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5181480" y="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香港是一个著名的港口，世界各地的商人都乐意来这里做生意。因此，香港的市场是一个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万国市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。来自近两百个国家和地区的商品，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琳琅（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áng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）满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应有尽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而且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物美价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á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5904000" y="6793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琳琅满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图片 3" descr="图片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71960" y="557208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whoosh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01:18:56Z</dcterms:created>
  <dc:creator>曹敏</dc:creator>
  <dc:description/>
  <cp:keywords/>
  <dc:language>en-US</dc:language>
  <cp:lastModifiedBy>微软用户</cp:lastModifiedBy>
  <cp:lastPrinted>1899-12-30T00:00:00Z</cp:lastPrinted>
  <dcterms:modified xsi:type="dcterms:W3CDTF">2014-11-17T02:13:03Z</dcterms:modified>
  <cp:revision>1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